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6B562-C788-41A2-8818-F9B5C97591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AE9C9-EFAB-429F-9B35-4E894377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937EF-30A2-4858-B54B-A87D5064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6D973-0BDA-41FE-9354-27C1382F1E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EC1D4-7FAD-41DD-A28B-3785A144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6296F-6E06-44D3-8F9B-79BE22B4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C9494-2857-4499-A39C-BCF24725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7E50F-8FD7-4458-AA95-43D9C22F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F274D-3C79-4129-8EAD-052DEBB0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07267-B2BA-494D-B68D-24B78451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40AF7-3E75-404D-A5A8-443EF05A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2D552-70DD-4219-9BBE-C8904A0F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3D19-0829-4455-A544-B039E8221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rcRect l="29161" t="0" r="28346" b="0"/>
          <a:stretch/>
        </p:blipFill>
        <p:spPr>
          <a:xfrm>
            <a:off x="2666880" y="6400800"/>
            <a:ext cx="3886200" cy="457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ergy Target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formance Specification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MUD House of the Fu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7160" y="5165640"/>
            <a:ext cx="303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10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Ren Anderson, N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0" r="0" b="86670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10840" y="161460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t Dry Climate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2286000"/>
            <a:ext cx="853452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rk has been authored by an employee or employees of the Midwest Research Institute under Contract No. DE-AC36-99GO10337 with the U.S. Department of Energy. The United States Government retains and the publisher, by accepting the article for publication, acknowledges that the United States Government retains a non-exclusive, paid-up, irrevocable, worldwide license to publish or reproduce the published form of this work, or allow others to do so, for United States Government purpo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0" r="0" b="86670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29161" t="0" r="28346" b="0"/>
          <a:stretch/>
        </p:blipFill>
        <p:spPr>
          <a:xfrm>
            <a:off x="2666880" y="6400800"/>
            <a:ext cx="3886200" cy="45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E4E7B-9050-4603-8FB5-9D6328850C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2779" t="17778" r="9723" b="8886"/>
          <a:stretch/>
        </p:blipFill>
        <p:spPr>
          <a:xfrm>
            <a:off x="914400" y="1752480"/>
            <a:ext cx="7201080" cy="3772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 Annual Operating Cost, Without Incen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9E7F1-0FE0-4843-B9C0-67C0FDDB04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Performance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Performance Spe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storm Green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-up/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1CFF0-F17F-42EA-B77D-F7CCD1C7EC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 Overview and Planning Sche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: Base Energy Performance Spe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Weeks: Emerging Energy Savers (MEL’s, demand/response, …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 Weeks: Green Materi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2FD23-484E-4F13-9961-CE240DAFFE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Performance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Source Energy: 80%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 Net Summer Peak Electric Demand: 4 PM to 8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70080" y="1255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500 ft2 floor area targ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C88CD-69C0-42CE-A048-21A11C58EB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20849" t="15600" r="9750" b="20041"/>
          <a:stretch/>
        </p:blipFill>
        <p:spPr>
          <a:xfrm>
            <a:off x="1066680" y="1295280"/>
            <a:ext cx="6892920" cy="3996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REL Reference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2185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00 SF, 3 Bdrm, 2 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% Gla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Facing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37B90-A83C-4678-8436-205C70751E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F Base Energy Performance Spe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762120"/>
            <a:ext cx="8610480" cy="36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x6/R19-R21 cavity/R12 insulating sheathing (R30 wall assembl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50 ceiling 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ght Envelope, .0002 SLA (4 A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e/low SHGC glazing (0.3 U-value, 0.26 SHG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CFL Lig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R 18+ AC/Freus/3 ton with 4-8 PM summer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UE 90+ furn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 hot water with tankless gas hot water backup, (EF 0.80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ght ducts, inside conditioned space (mastic, 5% leak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 clothes dr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5kW P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Star Appli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5987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6494400"/>
            <a:ext cx="9144000" cy="439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3640" y="5195880"/>
            <a:ext cx="67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stimated cost increase relative to standard home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,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+$20.00/f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5120" y="5641920"/>
            <a:ext cx="664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ot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Equivalent packages may be substituted, based on specific builder prefer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Incremental costs estimated relative to minimum T-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4B9E1-CFF4-47DF-ADF7-CF19AD60DB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2779" t="17778" r="4166" b="8886"/>
          <a:stretch/>
        </p:blipFill>
        <p:spPr>
          <a:xfrm>
            <a:off x="838080" y="1866960"/>
            <a:ext cx="7658280" cy="3771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ual Energy, End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8680" y="17668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40120" y="31608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05720" y="42670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67280" y="45864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CB284-5719-4A5E-B3A7-4496FBA802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MUD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5680" y="923760"/>
            <a:ext cx="8677440" cy="593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22425-315E-4206-AAF1-07C4FA8B6B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ak Demand: HOF Base, 4kWac West Arr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752480"/>
          <a:ext cx="8291520" cy="418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29152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253040" y="26272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62720" y="33894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714640" y="358128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7100F-7C5E-4C84-8C8C-58F03706B2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17:53:16Z</dcterms:created>
  <dc:creator>NREL</dc:creator>
  <dc:description/>
  <dc:language>en-US</dc:language>
  <cp:lastModifiedBy> </cp:lastModifiedBy>
  <dcterms:modified xsi:type="dcterms:W3CDTF">2008-08-12T23:09:26Z</dcterms:modified>
  <cp:revision>237</cp:revision>
  <dc:subject/>
  <dc:title>Basic Technology Packages: Hot/Dry</dc:title>
</cp:coreProperties>
</file>